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E20-A90B-478B-B04E-162DDFA8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3C90-1C63-4F44-BAA8-B5D06AEA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3DFA-526A-4E74-A08C-A143BC51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C793-3E0C-4C52-807B-0C60703A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5468-C8E3-495B-82BB-66D315CA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CB72-13D2-401F-8F95-B3254228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27A-CC7A-46B8-B613-06209C0B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AE3-7F79-43BC-A9FF-EC69267B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86D7-5198-4C6A-83D6-5736FE2D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0831-7388-4F46-A586-109730B2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69F-27DD-4E70-A559-D2FE8D08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20DA-05B2-42D3-A141-1AFA4FB7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5FA9-7AEA-4BB7-A9C2-D0AF6F28A91F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4720" y="2421000"/>
            <a:ext cx="7850160" cy="1079280"/>
          </a:xfrm>
          <a:prstGeom prst="rect">
            <a:avLst/>
          </a:prstGeom>
          <a:solidFill>
            <a:srgbClr val="c6d9f1"/>
          </a:solidFill>
          <a:ln w="3816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PEPTIC ULCER  DISEASE (PU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4920" y="3860640"/>
            <a:ext cx="820908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Users\ashawky\Desktop\mcst logo.jpg"/>
          <p:cNvPicPr/>
          <p:nvPr/>
        </p:nvPicPr>
        <p:blipFill>
          <a:blip r:embed="rId1"/>
          <a:stretch/>
        </p:blipFill>
        <p:spPr>
          <a:xfrm>
            <a:off x="6012000" y="474840"/>
            <a:ext cx="2628720" cy="66672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75C7-85BC-4612-8A86-085778C0D31E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28320" y="764640"/>
            <a:ext cx="83581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4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. pylor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enhances gastric acid secre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impairs duodenal bicarbonate produ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us reducing luminal pH in the duodenum. This altered milieu seems to favor gastric metaplasia (the presence of gastric epithelium) in the first part of the duodenu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uch metaplastic foci provide areas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. pylor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lonizatio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6743-4B9C-4B8F-832A-3A48162EB380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264360"/>
          </a:xfrm>
          <a:prstGeom prst="rect">
            <a:avLst/>
          </a:prstGeom>
          <a:ln w="0">
            <a:noFill/>
          </a:ln>
        </p:spPr>
      </p:pic>
      <p:sp>
        <p:nvSpPr>
          <p:cNvPr id="8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2FDC-E3D8-45B6-BC54-432D5A307E83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5F2D-62E0-43FC-B39B-25A4ED46E248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C:\Users\ashawky\Desktop\stomach endoscopy.jpg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6374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* Gross fea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4920" y="1052640"/>
            <a:ext cx="851076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Sit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stric ulcers are located at the antrum toward the lesser curvature. The duodenal ulcer is usually located at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rt anterior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Shape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und, ov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Size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ual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ess than 2c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diame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ions less than 0.3 cm  are likely to be shallow eros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ant ulcers are usually greater than 3cm in diameter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A99A-AFE1-445A-BD35-5F4D7E656A96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24000" y="404280"/>
            <a:ext cx="85644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Base of ulc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m (formed of bundles of muscles and fibrous tissu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Flo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ean (gastric juice digest any food particles at the flo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Margin (Surrounding gastric mucosa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ematous and reddened due to gastriti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Depth of the ulcer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uperficial ulc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netrate the mucosa reaching up to the muscularis muc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eeply ulcer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their bases o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uscularis prop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4CF2-F0C6-49E4-BB36-4FA7ED440CC4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4535280" cy="3886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3954240" cy="3886200"/>
          </a:xfrm>
          <a:prstGeom prst="rect">
            <a:avLst/>
          </a:prstGeom>
          <a:ln w="0">
            <a:noFill/>
          </a:ln>
        </p:spPr>
      </p:pic>
      <p:sp>
        <p:nvSpPr>
          <p:cNvPr id="9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9502-D160-45AE-B123-03FEF22722CB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36960" y="920520"/>
            <a:ext cx="375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Gastric ulc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176720" cy="3462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4572000" y="3284640"/>
            <a:ext cx="4286160" cy="3371760"/>
          </a:xfrm>
          <a:prstGeom prst="rect">
            <a:avLst/>
          </a:prstGeom>
          <a:ln w="0">
            <a:noFill/>
          </a:ln>
        </p:spPr>
      </p:pic>
      <p:sp>
        <p:nvSpPr>
          <p:cNvPr id="101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F299-B753-4BF2-92A4-9EBA99DC2675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Duodenal ulc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GIC0301-07-013C"/>
          <p:cNvPicPr/>
          <p:nvPr/>
        </p:nvPicPr>
        <p:blipFill>
          <a:blip r:embed="rId1"/>
          <a:stretch/>
        </p:blipFill>
        <p:spPr>
          <a:xfrm>
            <a:off x="179280" y="1241280"/>
            <a:ext cx="8713800" cy="5262840"/>
          </a:xfrm>
          <a:prstGeom prst="rect">
            <a:avLst/>
          </a:prstGeom>
          <a:ln w="0">
            <a:noFill/>
          </a:ln>
        </p:spPr>
      </p:pic>
      <p:sp>
        <p:nvSpPr>
          <p:cNvPr id="106" name="Right Arrow 1"/>
          <p:cNvSpPr/>
          <p:nvPr/>
        </p:nvSpPr>
        <p:spPr>
          <a:xfrm>
            <a:off x="6659640" y="3630600"/>
            <a:ext cx="9795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8D72-1D80-489E-987B-FE3C94D13D01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547344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* Microscopic feature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 distinct layers are present in a peptic ulcer in the same sequence starting from the luminal si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Necrotic debr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Non-specific acute inflammatory reac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Granulation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Fibrosis: replacing the muscle wall and extending into subsero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F464-04BC-4B9E-A93A-3EC32F5EF77C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croscopic picture of peptic ulce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882200" cy="5176800"/>
          </a:xfrm>
          <a:prstGeom prst="rect">
            <a:avLst/>
          </a:prstGeom>
          <a:ln w="0">
            <a:noFill/>
          </a:ln>
        </p:spPr>
      </p:pic>
      <p:sp>
        <p:nvSpPr>
          <p:cNvPr id="11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8EB6-F308-47B9-9EBB-F98593FA1500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7160" y="713880"/>
            <a:ext cx="863748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</a:rPr>
              <a:t>* Definition of peptic ulcer diseas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lceration of any portion of the gastrointestinal tract exposed to the aggressive action of acidic-peptic secre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75DE-3827-4F58-8AB9-FE165893C235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* Complications of PU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. Hemorrhag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s to hematemesis or mele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2. Perfo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3. Healing by fibrosi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using obstru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. Malignant transforma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re (0.5% of gastric peptic ulce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9B6A-AB7F-43A4-BE1B-D120A6655C9D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6374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</a:rPr>
              <a:t>* Clinical presenta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3640" y="1196640"/>
            <a:ext cx="856908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hronic, recurring les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g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often diagnosed in middle aged to older adul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ai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pigastric burning or aching pa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in worse at night and 1 to 3 hours after meal during the day specially in duodenal ulc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ically, the pain is relieved by alkalis or food (DU)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vomiting (GU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930F-5009-4EFB-ACD9-1790897F4250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6840" y="620280"/>
            <a:ext cx="84358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usea, vomiting, bloating, and significant weight loss (raising the possibility of some hidden malignancy) are additional manifesta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penetrating ulcers, the pain is occasionally referred to the back, the left upper quadrant, or chest. This type of pain may be misinterpreted as being of cardiac orig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5EF6-134F-4DEE-B289-C39E051C76B3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ashawky\Desktop\537609_532248906799119_1451101252_n.jpg"/>
          <p:cNvPicPr/>
          <p:nvPr/>
        </p:nvPicPr>
        <p:blipFill>
          <a:blip r:embed="rId1"/>
          <a:stretch/>
        </p:blipFill>
        <p:spPr>
          <a:xfrm>
            <a:off x="2050920" y="620640"/>
            <a:ext cx="4662720" cy="49323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42920" y="4723920"/>
            <a:ext cx="309708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lackadder ITC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63E1-FAA2-4098-9B68-5108490B73BD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68407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</a:rPr>
              <a:t>* Sites of peptic ulcer diseas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4000" y="1196640"/>
            <a:ext cx="8208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uodenum (DU)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st portion. Anterior wall is more often affec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omach (GU)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ually antrum.  Lesser curvature (common)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t the margins of a gastroenterostom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tomal ulc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the duodenum, stomach or jejunum of patients with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Zollinger-Ellison syndro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eckel’s diverticulu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contains ectopic gastric mucosa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F650-39C0-46CA-A034-619882D38FC9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3492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</a:rPr>
              <a:t>* Pathogenesis of peptic ulcer</a:t>
            </a: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: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8320" y="1341360"/>
            <a:ext cx="84913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ptic ulcers are produced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n imbalan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ween the gastro-duoden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ucosal defense mechanism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amaging forces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7720-E689-415F-B17E-B7B90869DE5D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778960" cy="5046840"/>
          </a:xfrm>
          <a:prstGeom prst="rect">
            <a:avLst/>
          </a:prstGeom>
          <a:ln w="0">
            <a:noFill/>
          </a:ln>
        </p:spPr>
      </p:pic>
      <p:sp>
        <p:nvSpPr>
          <p:cNvPr id="5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CE92-537D-43CD-BE2F-BD05C1E3C0A4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558ed5"/>
                </a:solidFill>
                <a:uFillTx/>
                <a:latin typeface="Calibri"/>
              </a:rPr>
              <a:t>* Mucosal defense mechanism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mucous secre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carbonate secretion into muco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ght adherence between epithelial cells to prevent any acid leakage to the in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blood supply to the muc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newal of damaged epithelial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aboration of prostaglandi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AC94-5F42-491C-ACE3-426B4B78109C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558ed5"/>
                </a:solidFill>
                <a:uFillTx/>
                <a:latin typeface="Calibri"/>
              </a:rPr>
              <a:t>* Damaging agent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. pylo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SA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piri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garette smo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coholis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tric hyperacid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odenal-gastric reflux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CD28-FFFD-460E-8B77-42517D3B390A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563040"/>
            <a:ext cx="863748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Role of</a:t>
            </a: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H. Pylori infection in the pathogenesis of peptic ulc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8320" y="1676160"/>
            <a:ext cx="8636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. pylor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ection is present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lmost al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s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ode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lcers and 70% of  cases with gastric ulc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* </a:t>
            </a: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Mechanis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H. pylori secretes damaging enzym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Urea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breaks down urea to toxic compounds e.g. ammonium chlori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otea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reaks down glycoprotein in the gastric mucus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hospholipa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Damage the cell membranes of surface epithelial cel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CB5E-90BA-42FE-A9C3-295B5F6AEE09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23640" y="549000"/>
            <a:ext cx="83516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terial lipopolysaccharide  stimulate the surface epithelial cells to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release pro-inflammatory cytokin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 IL-1, IL-6 and TNF. These attracts inflammatory cells (Neutrophils) to the mucosa and promote the inflammatory re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. pylori release bacterial platelet-activating factor promotes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thrombotic occlusion of surface capillari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033B-8EDE-400C-A689-F044562B8151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01:10:12Z</dcterms:created>
  <dc:creator>HP Authorized Customer</dc:creator>
  <dc:description/>
  <dc:language>en-US</dc:language>
  <cp:lastModifiedBy>Jihan Abdelmenam</cp:lastModifiedBy>
  <dcterms:modified xsi:type="dcterms:W3CDTF">2016-09-20T14:18:57Z</dcterms:modified>
  <cp:revision>138</cp:revision>
  <dc:subject/>
  <dc:title>PATHLOGY AND PATHOGENESIS OF PEPTIC ULCER</dc:title>
</cp:coreProperties>
</file>